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3428-DF19-4901-BE4C-438EC2FF3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A226-8D65-4D4C-AB15-76E3EF47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A317-8A32-4EAE-A202-BD910D5E5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BB6B-AEC7-4A58-9B13-A3F031951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FB66-81AB-42B9-A701-0EC5F72B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68B3-64CD-4866-8512-2DF96939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32E7-4ABE-490B-AC0A-5C55F382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6BAC-950A-4A4C-A635-4D7A1763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0672-CF33-40EC-9B1A-579EBDA5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F2A6-BEFD-4EAF-A926-934CC1A0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B7B8-2EB9-4E80-8EA9-48945297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9EAB-AAD1-4A1B-B3F3-8C952703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403F-4CA3-4BE4-9422-64292B16A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Fall of the Rom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70572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in is the basis for the Romance languages (Spanish, French, Italian, Portuguese, and Romani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us many of our English words we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63860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conomic Rea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taxes wiped out the middle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 and businesses went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unemployment due to slave la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743200" y="3733920"/>
            <a:ext cx="3657600" cy="24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litical Rea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f the fighting to be “emper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ifferent Emperors over a short time s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505320" y="2971800"/>
            <a:ext cx="231912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cial Rea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al dec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interest in the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76720" y="396252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litary Rea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my grew w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did not en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ruited non-Romans to defend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my became undiscipl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33360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OMAN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16256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que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4343400" cy="3255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52280" y="3657600"/>
            <a:ext cx="44006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uthors/Wri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c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g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t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419720" y="1219320"/>
            <a:ext cx="3790800" cy="52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inian Code ~ all people are equal and you are innocent to proven guil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76520" y="4038480"/>
            <a:ext cx="1806480" cy="1413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715000" y="3733920"/>
            <a:ext cx="158436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8T18:38:36Z</dcterms:created>
  <dc:creator>gehadde</dc:creator>
  <dc:description/>
  <dc:language>en-US</dc:language>
  <cp:lastModifiedBy>gehadde</cp:lastModifiedBy>
  <dcterms:modified xsi:type="dcterms:W3CDTF">2012-06-06T13:03:57Z</dcterms:modified>
  <cp:revision>6</cp:revision>
  <dc:subject/>
  <dc:title>WARM-UP: # </dc:title>
</cp:coreProperties>
</file>